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92B-FED9-4EB8-9AC7-3952F609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0F7-2D79-4816-9FAD-89E5A07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4B7-F41F-4155-92F6-EB0E3364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06C-FDF3-4558-A760-6A5310C3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3BE-95CA-42CC-A19E-3B9B05B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AFE-1C92-4C9B-908E-13962C55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598-8692-4695-9F6B-81A45A4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7DD-CBC7-49FA-B9C5-3B49EB94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13E-FE45-48A1-BC48-B39B397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873-0725-478D-A22E-E213EE0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E0E-5F69-4452-B242-2FB4283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CDF-FB93-4A4E-AFE4-6B47F64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9CEE-D776-41F6-90E7-BF58967A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home-schoo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1412640"/>
            <a:ext cx="6224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(explored through the issues of homework [setting / doing / monitoring] and the role of pupils, parents and teach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within this scena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133720"/>
            <a:ext cx="799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and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equal stakeholders with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355428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3573360"/>
            <a:ext cx="1584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7640" y="5157720"/>
            <a:ext cx="17290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87600">
            <a:off x="2637000" y="43657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5040" y="35002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254000">
            <a:off x="5580000" y="4311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4221000"/>
            <a:ext cx="23050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284640"/>
            <a:ext cx="1295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484280"/>
            <a:ext cx="115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1360" y="20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797400">
            <a:off x="2978640" y="3869640"/>
            <a:ext cx="48600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784840"/>
            <a:ext cx="1989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 / 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4437000"/>
            <a:ext cx="1728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508640"/>
            <a:ext cx="647640" cy="48564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78800">
            <a:off x="2771280" y="5013000"/>
            <a:ext cx="486000" cy="865080"/>
          </a:xfrm>
          <a:prstGeom prst="downArrow">
            <a:avLst>
              <a:gd name="adj1" fmla="val 50000"/>
              <a:gd name="adj2" fmla="val 44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65560" y="5786280"/>
            <a:ext cx="1299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5837400"/>
            <a:ext cx="1224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5837400"/>
            <a:ext cx="863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40720" y="584208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797360"/>
            <a:ext cx="431640" cy="863640"/>
          </a:xfrm>
          <a:prstGeom prst="upDownArrow">
            <a:avLst>
              <a:gd name="adj1" fmla="val 50000"/>
              <a:gd name="adj2" fmla="val 39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5805360"/>
            <a:ext cx="216000" cy="486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35640" y="4797360"/>
            <a:ext cx="431640" cy="863640"/>
          </a:xfrm>
          <a:prstGeom prst="upDownArrow">
            <a:avLst>
              <a:gd name="adj1" fmla="val 50000"/>
              <a:gd name="adj2" fmla="val 398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4941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13200">
            <a:off x="6151320" y="446040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36600">
            <a:off x="7038720" y="53802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851600">
            <a:off x="7993080" y="538128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817720"/>
            <a:ext cx="244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254000">
            <a:off x="5727240" y="3344760"/>
            <a:ext cx="486000" cy="728640"/>
          </a:xfrm>
          <a:prstGeom prst="upArrow">
            <a:avLst>
              <a:gd name="adj1" fmla="val 50000"/>
              <a:gd name="adj2" fmla="val 37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1413000"/>
            <a:ext cx="1727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otional mat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916280"/>
            <a:ext cx="485640" cy="649080"/>
          </a:xfrm>
          <a:prstGeom prst="upArrow">
            <a:avLst>
              <a:gd name="adj1" fmla="val 50000"/>
              <a:gd name="adj2" fmla="val 33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81628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28464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00360" y="1413000"/>
            <a:ext cx="18734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916280"/>
            <a:ext cx="485640" cy="649080"/>
          </a:xfrm>
          <a:prstGeom prst="upArrow">
            <a:avLst>
              <a:gd name="adj1" fmla="val 50000"/>
              <a:gd name="adj2" fmla="val 33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andscape of th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3032280"/>
            <a:ext cx="129708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033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2861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287960"/>
            <a:ext cx="1152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4292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4221000"/>
            <a:ext cx="136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5300640"/>
            <a:ext cx="1152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5516640"/>
            <a:ext cx="143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324800">
            <a:off x="493200" y="361944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47600">
            <a:off x="1363320" y="35841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797360"/>
            <a:ext cx="865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p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970800">
            <a:off x="2886120" y="3539880"/>
            <a:ext cx="485640" cy="720720"/>
          </a:xfrm>
          <a:prstGeom prst="upDownArrow">
            <a:avLst>
              <a:gd name="adj1" fmla="val 50000"/>
              <a:gd name="adj2" fmla="val 2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1844640"/>
            <a:ext cx="15130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/Teachers 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213372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1268280"/>
            <a:ext cx="1152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141300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1844640"/>
            <a:ext cx="14414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 / this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781360"/>
            <a:ext cx="1512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573360"/>
            <a:ext cx="10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357336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2637000"/>
            <a:ext cx="15127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4724280"/>
            <a:ext cx="151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4076640"/>
            <a:ext cx="1513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2492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742600">
            <a:off x="3277080" y="249156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62864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573200">
            <a:off x="3900240" y="3225600"/>
            <a:ext cx="486000" cy="1127160"/>
          </a:xfrm>
          <a:prstGeom prst="downArrow">
            <a:avLst>
              <a:gd name="adj1" fmla="val 50000"/>
              <a:gd name="adj2" fmla="val 5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17400">
            <a:off x="2411280" y="3789000"/>
            <a:ext cx="486000" cy="576360"/>
          </a:xfrm>
          <a:prstGeom prst="downArrow">
            <a:avLst>
              <a:gd name="adj1" fmla="val 50000"/>
              <a:gd name="adj2" fmla="val 29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831280" y="209808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742600">
            <a:off x="5183640" y="166464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263280" y="2672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4597400">
            <a:off x="5652360" y="47959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8035200">
            <a:off x="7775640" y="4905720"/>
            <a:ext cx="360360" cy="431640"/>
          </a:xfrm>
          <a:prstGeom prst="up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7234800">
            <a:off x="6120360" y="411372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175000">
            <a:off x="6227640" y="350172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496600">
            <a:off x="8353440" y="3146040"/>
            <a:ext cx="115920" cy="781200"/>
          </a:xfrm>
          <a:prstGeom prst="downArrow">
            <a:avLst>
              <a:gd name="adj1" fmla="val 50000"/>
              <a:gd name="adj2" fmla="val 168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1600" y="692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andscape of the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314172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6237360"/>
            <a:ext cx="86508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14172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3645000"/>
            <a:ext cx="1368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colleag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565360"/>
            <a:ext cx="1152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ag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2565360"/>
            <a:ext cx="100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060640"/>
            <a:ext cx="1008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3141720"/>
            <a:ext cx="1008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 of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7893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07664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125360"/>
            <a:ext cx="1008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1700280"/>
            <a:ext cx="1008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1125360"/>
            <a:ext cx="1800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 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1773360"/>
            <a:ext cx="143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191628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tor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364500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50864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4370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229360"/>
            <a:ext cx="1439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437000"/>
            <a:ext cx="14400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Welfare Off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445000"/>
            <a:ext cx="2521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Education 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6165720"/>
            <a:ext cx="1440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185600">
            <a:off x="5430960" y="3546360"/>
            <a:ext cx="1015920" cy="216000"/>
          </a:xfrm>
          <a:prstGeom prst="rightArrow">
            <a:avLst>
              <a:gd name="adj1" fmla="val 50000"/>
              <a:gd name="adj2" fmla="val 117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081400">
            <a:off x="5724000" y="2420640"/>
            <a:ext cx="1016280" cy="216000"/>
          </a:xfrm>
          <a:prstGeom prst="rightArrow">
            <a:avLst>
              <a:gd name="adj1" fmla="val 50000"/>
              <a:gd name="adj2" fmla="val 117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5032440" y="217800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171800">
            <a:off x="4284360" y="27810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2502200">
            <a:off x="2700360" y="2996640"/>
            <a:ext cx="1015920" cy="215640"/>
          </a:xfrm>
          <a:prstGeom prst="rightArrow">
            <a:avLst>
              <a:gd name="adj1" fmla="val 50000"/>
              <a:gd name="adj2" fmla="val 11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979640" y="220500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150400">
            <a:off x="1071360" y="246492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8241000">
            <a:off x="998280" y="282528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171800">
            <a:off x="2484360" y="2276280"/>
            <a:ext cx="304920" cy="215640"/>
          </a:xfrm>
          <a:prstGeom prst="rightArrow">
            <a:avLst>
              <a:gd name="adj1" fmla="val 50000"/>
              <a:gd name="adj2" fmla="val 35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3769800">
            <a:off x="1863720" y="296856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6200400">
            <a:off x="1330560" y="321228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8241000">
            <a:off x="3707640" y="371628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769800">
            <a:off x="4598640" y="376056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769800">
            <a:off x="7407360" y="4049640"/>
            <a:ext cx="304560" cy="216000"/>
          </a:xfrm>
          <a:prstGeom prst="rightArrow">
            <a:avLst>
              <a:gd name="adj1" fmla="val 50000"/>
              <a:gd name="adj2" fmla="val 35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8500800">
            <a:off x="6614280" y="4120920"/>
            <a:ext cx="304920" cy="215640"/>
          </a:xfrm>
          <a:prstGeom prst="rightArrow">
            <a:avLst>
              <a:gd name="adj1" fmla="val 50000"/>
              <a:gd name="adj2" fmla="val 35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769800">
            <a:off x="2006280" y="584964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361200">
            <a:off x="2223720" y="541764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171800">
            <a:off x="1618920" y="47970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5078000">
            <a:off x="1213920" y="1528200"/>
            <a:ext cx="304920" cy="216000"/>
          </a:xfrm>
          <a:prstGeom prst="rightArrow">
            <a:avLst>
              <a:gd name="adj1" fmla="val 50000"/>
              <a:gd name="adj2" fmla="val 35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056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70828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403200">
            <a:off x="2155680" y="1812960"/>
            <a:ext cx="1015920" cy="215640"/>
          </a:xfrm>
          <a:prstGeom prst="rightArrow">
            <a:avLst>
              <a:gd name="adj1" fmla="val 50000"/>
              <a:gd name="adj2" fmla="val 11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14172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09200">
            <a:off x="5516280" y="3032280"/>
            <a:ext cx="549360" cy="215640"/>
          </a:xfrm>
          <a:prstGeom prst="rightArrow">
            <a:avLst>
              <a:gd name="adj1" fmla="val 50000"/>
              <a:gd name="adj2" fmla="val 63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1:21:48Z</dcterms:created>
  <dc:creator>mi452</dc:creator>
  <dc:description/>
  <dc:language>en-US</dc:language>
  <cp:lastModifiedBy>mi452</cp:lastModifiedBy>
  <dcterms:modified xsi:type="dcterms:W3CDTF">2009-07-04T14:16:19Z</dcterms:modified>
  <cp:revision>19</cp:revision>
  <dc:subject/>
  <dc:title>Slide 1</dc:title>
</cp:coreProperties>
</file>